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1511935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E976-CE78-4D18-A7EB-927889C85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64880"/>
            <a:ext cx="9617040" cy="3392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3527280"/>
            <a:ext cx="9617040" cy="4755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8735400"/>
            <a:ext cx="9617040" cy="4755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462D5-36E5-437A-9F40-BE5383DC8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64880"/>
            <a:ext cx="9617040" cy="3392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3527280"/>
            <a:ext cx="4692960" cy="4755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000" y="3527280"/>
            <a:ext cx="4692960" cy="4755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8735400"/>
            <a:ext cx="4692960" cy="4755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000" y="8735400"/>
            <a:ext cx="4692960" cy="4755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038A-97DE-4277-A298-F4ADD4BD5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64880"/>
            <a:ext cx="9617040" cy="3392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3527280"/>
            <a:ext cx="3096360" cy="4755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6480" y="3527280"/>
            <a:ext cx="3096360" cy="4755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38000" y="3527280"/>
            <a:ext cx="3096360" cy="4755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8735400"/>
            <a:ext cx="3096360" cy="4755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6480" y="8735400"/>
            <a:ext cx="3096360" cy="4755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38000" y="8735400"/>
            <a:ext cx="3096360" cy="4755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AC80-3B18-4055-A613-FA9066E340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64880"/>
            <a:ext cx="9617040" cy="3392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3527280"/>
            <a:ext cx="9617040" cy="997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72014-C814-4FB5-A9D7-B9F32D2D1A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64880"/>
            <a:ext cx="9617040" cy="3392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3527280"/>
            <a:ext cx="9617040" cy="9971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7CE54-1AC4-482F-9BB7-DA5CF90BA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64880"/>
            <a:ext cx="9617040" cy="3392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3527280"/>
            <a:ext cx="4692960" cy="9971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000" y="3527280"/>
            <a:ext cx="4692960" cy="9971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DF42-1B16-4D03-841D-966F5D237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64880"/>
            <a:ext cx="9617040" cy="3392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0460-4007-4F1A-95AB-4F612F78B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64880"/>
            <a:ext cx="9617040" cy="157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3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DCAEC-D4BE-4F32-A039-901FF4A75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64880"/>
            <a:ext cx="9617040" cy="3392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3527280"/>
            <a:ext cx="4692960" cy="4755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000" y="3527280"/>
            <a:ext cx="4692960" cy="9971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8735400"/>
            <a:ext cx="4692960" cy="4755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7B88-85F4-4274-A7F2-8004DA59C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64880"/>
            <a:ext cx="9617040" cy="3392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3527280"/>
            <a:ext cx="4692960" cy="9971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000" y="3527280"/>
            <a:ext cx="4692960" cy="4755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000" y="8735400"/>
            <a:ext cx="4692960" cy="4755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33AA0-7ADB-4FCF-A15D-D5A120373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64880"/>
            <a:ext cx="9617040" cy="3392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3527280"/>
            <a:ext cx="4692960" cy="4755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000" y="3527280"/>
            <a:ext cx="4692960" cy="4755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8735400"/>
            <a:ext cx="9617040" cy="4755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072C4-D654-4A35-9E08-13A953A98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64880"/>
            <a:ext cx="9617040" cy="3392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3527280"/>
            <a:ext cx="9617040" cy="9971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343080" indent="0">
              <a:spcBef>
                <a:spcPts val="13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13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13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13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534960" y="14013000"/>
            <a:ext cx="24955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652920" y="14013000"/>
            <a:ext cx="33876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62960" y="14011200"/>
            <a:ext cx="2489040" cy="7984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D013B-88EF-43E4-BB70-777D61099895}" type="slidenum">
              <a:rPr b="0" lang="it-IT" sz="2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6920" y="210960"/>
            <a:ext cx="1782720" cy="1408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00360" y="330120"/>
            <a:ext cx="6496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Associazione Marco Mascag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www.giardinodimarco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8000"/>
            <a:ext cx="106203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90290"/>
                </a:solidFill>
                <a:latin typeface="Comic Sans MS"/>
              </a:rPr>
              <a:t>Giovedì 8 settembre ore 16.30-21.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90290"/>
                </a:solidFill>
                <a:latin typeface="Comic Sans MS"/>
              </a:rPr>
              <a:t>Parco Marco Mascag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2100" spc="-1" strike="noStrike">
                <a:solidFill>
                  <a:srgbClr val="090290"/>
                </a:solidFill>
                <a:latin typeface="Comic Sans MS"/>
              </a:rPr>
              <a:t>Via Ruoppolo-Via Bertin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5200" spc="-1" strike="noStrike">
                <a:solidFill>
                  <a:srgbClr val="090290"/>
                </a:solidFill>
                <a:latin typeface="Comic Sans MS"/>
              </a:rPr>
              <a:t>Marco Mascagna 20 anni dopo:</a:t>
            </a:r>
            <a:r>
              <a:rPr b="1" i="1" lang="it-IT" sz="5000" spc="-1" strike="noStrike">
                <a:solidFill>
                  <a:srgbClr val="090290"/>
                </a:solidFill>
                <a:latin typeface="Comic Sans MS"/>
              </a:rPr>
              <a:t> </a:t>
            </a:r>
            <a:r>
              <a:rPr b="1" i="1" lang="it-IT" sz="4400" spc="-1" strike="noStrike">
                <a:solidFill>
                  <a:srgbClr val="090290"/>
                </a:solidFill>
                <a:latin typeface="Comic Sans MS"/>
              </a:rPr>
              <a:t>ambiente, salute, giustizia e pa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60360" y="5938920"/>
            <a:ext cx="3959280" cy="5578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319640" y="6478560"/>
            <a:ext cx="611964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4400" spc="-1" strike="noStrike">
                <a:solidFill>
                  <a:srgbClr val="090290"/>
                </a:solidFill>
                <a:latin typeface="Comic Sans MS"/>
              </a:rPr>
              <a:t>stand, mostre, performanc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4400" spc="-1" strike="noStrike">
                <a:solidFill>
                  <a:srgbClr val="090290"/>
                </a:solidFill>
                <a:latin typeface="Comic Sans MS"/>
              </a:rPr>
              <a:t>laboratorio di pittura per bambini, minicorso di compostaggio domesti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9680" y="11877840"/>
            <a:ext cx="1055376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90290"/>
                </a:solidFill>
                <a:latin typeface="Comic Sans MS"/>
              </a:rPr>
              <a:t>Musica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90290"/>
                </a:solidFill>
                <a:latin typeface="Comic Sans MS"/>
              </a:rPr>
              <a:t>Daniela del Monaco e Antonio Grande, Finti-Illimani, The Beatleju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4:55:17Z</dcterms:created>
  <dc:creator>PIO RUSSO KRAUSS</dc:creator>
  <dc:description/>
  <dc:language>en-US</dc:language>
  <cp:lastModifiedBy>Russo Krauss</cp:lastModifiedBy>
  <dcterms:modified xsi:type="dcterms:W3CDTF">2009-11-28T18:45:52Z</dcterms:modified>
  <cp:revision>15</cp:revision>
  <dc:subject/>
  <dc:title>Diapositiva 1</dc:title>
</cp:coreProperties>
</file>