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A71-5562-473E-973E-B0856E9A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DE6-80E3-4161-8ADD-B7C20290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7B7-28D4-403C-80AF-573DACF2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8244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396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28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8244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396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B4A-A872-4BE5-9EBC-DE272E9D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4B3-C6E1-4A8F-942D-86EDE48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38B-3207-4BB9-A242-E85C7E3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352-68C5-4663-9528-98C7C6DF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667-830B-4AC0-97F5-3978E730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1280" y="757080"/>
            <a:ext cx="6154920" cy="77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36C-7FAC-4D75-BBFA-60B9591A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878-4535-4DA5-9D09-B16EE6C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EA0-6ABB-492D-855E-5162852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C1A-C89E-471E-A91E-B868D61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28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8560" y="9443520"/>
            <a:ext cx="21668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6392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2673EB-17FF-4220-ACAB-8EC771B561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280" y="360360"/>
            <a:ext cx="88272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7440" y="330120"/>
            <a:ext cx="4859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ssociazione Marco Masca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www.giardinodimarco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1295280"/>
            <a:ext cx="737856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Comic Sans MS"/>
              </a:rPr>
              <a:t>Giovedì 8 settembre ore 16.30-21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Comic Sans MS"/>
              </a:rPr>
              <a:t>Parco Marco Masca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Comic Sans MS"/>
              </a:rPr>
              <a:t>Via Ruoppolo-Via Bert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Marco Mascagna 20 anni dopo</a:t>
            </a:r>
            <a:r>
              <a:rPr b="1" i="1" lang="it-IT" sz="5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ff"/>
                </a:solidFill>
                <a:latin typeface="Comic Sans MS"/>
              </a:rPr>
              <a:t>ambiente, salute, giustizia e 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6360" y="4251240"/>
            <a:ext cx="2700360" cy="34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0360" y="4246560"/>
            <a:ext cx="3780000" cy="33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000080"/>
                </a:solidFill>
                <a:latin typeface="Comic Sans MS"/>
              </a:rPr>
              <a:t>stand, mostre, performa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000080"/>
                </a:solidFill>
                <a:latin typeface="Comic Sans MS"/>
              </a:rPr>
              <a:t>laboratorio di pittura per bambini, minicorso di compostaggio domes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7920000"/>
            <a:ext cx="74217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Comic Sans MS"/>
              </a:rPr>
              <a:t>Music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Comic Sans MS"/>
              </a:rPr>
              <a:t>Daniela del Monaco e Antonio Grand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Comic Sans MS"/>
              </a:rPr>
              <a:t>Finti-Illimani, The Beatleju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6:07:55Z</dcterms:created>
  <dc:creator>krauss </dc:creator>
  <dc:description/>
  <dc:language>en-US</dc:language>
  <cp:lastModifiedBy/>
  <cp:revision>1</cp:revision>
  <dc:subject/>
  <dc:title/>
</cp:coreProperties>
</file>