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427-BF74-4575-9C6E-F6727DB2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1640" y="2692440"/>
            <a:ext cx="615312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1640" y="6128640"/>
            <a:ext cx="615312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F5B-D26A-40F4-9341-C1E1D73D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1640" y="26924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4520" y="26924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1640" y="61286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4520" y="61286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868-E27A-4736-AE0A-B573D575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1640" y="2692440"/>
            <a:ext cx="198108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82080" y="2692440"/>
            <a:ext cx="198108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62520" y="2692440"/>
            <a:ext cx="198108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1640" y="6128640"/>
            <a:ext cx="198108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82080" y="6128640"/>
            <a:ext cx="198108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62520" y="6128640"/>
            <a:ext cx="198108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9A9-018A-4DAC-ABF5-C8C70F60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1640" y="2692440"/>
            <a:ext cx="615312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B46-9675-49D5-A5AE-C91DCC84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1640" y="2692440"/>
            <a:ext cx="615312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B60-C5AA-4AFD-BC8A-6EDA58B8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640" y="2692440"/>
            <a:ext cx="300240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4520" y="2692440"/>
            <a:ext cx="300240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29C-AFD7-4806-8E8E-5129EF32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4E8-F679-4103-969A-4DD4F358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1640" y="654120"/>
            <a:ext cx="615312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0CF-FF57-4701-8FEE-1CED95F0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1640" y="26924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4520" y="2692440"/>
            <a:ext cx="300240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1640" y="61286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7B2-E5FE-451A-8693-286B8663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1640" y="2692440"/>
            <a:ext cx="300240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4520" y="26924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4520" y="61286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0E7-5112-4418-9478-9C9CBA0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1640" y="26924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4520" y="2692440"/>
            <a:ext cx="300240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1640" y="6128640"/>
            <a:ext cx="6153120" cy="313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50C-7DAE-49C7-BBE7-B1EA0C30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3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1640" y="654120"/>
            <a:ext cx="615312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640" y="2692440"/>
            <a:ext cx="615312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280" y="9443520"/>
            <a:ext cx="15908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98920" y="9443520"/>
            <a:ext cx="21650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64280" y="9443520"/>
            <a:ext cx="15904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302AC-7210-4C58-8E98-D76AAFEF1EA6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3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1280" y="360360"/>
            <a:ext cx="882720" cy="72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57440" y="330120"/>
            <a:ext cx="48592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ssociazione Marco Mascag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www.giardinodimarco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080" y="1295280"/>
            <a:ext cx="737856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Comic Sans MS"/>
              </a:rPr>
              <a:t>Giovedì 8 settembre ore 16.30-21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Comic Sans MS"/>
              </a:rPr>
              <a:t>Parco Marco Mascag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80"/>
                </a:solidFill>
                <a:latin typeface="Comic Sans MS"/>
              </a:rPr>
              <a:t>Via Ruoppolo-Via Bert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Marco Mascagna 20 anni dopo</a:t>
            </a:r>
            <a:r>
              <a:rPr b="1" i="1" lang="it-IT" sz="5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ff"/>
                </a:solidFill>
                <a:latin typeface="Comic Sans MS"/>
              </a:rPr>
              <a:t>ambiente, salute, giustizia e 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6360" y="4251240"/>
            <a:ext cx="2700360" cy="341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0360" y="4246560"/>
            <a:ext cx="3780000" cy="33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000080"/>
                </a:solidFill>
                <a:latin typeface="Comic Sans MS"/>
              </a:rPr>
              <a:t>stand, mostre, performanc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000080"/>
                </a:solidFill>
                <a:latin typeface="Comic Sans MS"/>
              </a:rPr>
              <a:t>laboratorio di pittura per bambini, minicorso di compostaggio domest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7920000"/>
            <a:ext cx="74217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Comic Sans MS"/>
              </a:rPr>
              <a:t>Music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Comic Sans MS"/>
              </a:rPr>
              <a:t>Daniela del Monaco e Antonio Grand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Comic Sans MS"/>
              </a:rPr>
              <a:t>Finti-Illimani, The Beatleju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6:07:55Z</dcterms:created>
  <dc:creator>krauss </dc:creator>
  <dc:description/>
  <dc:language>en-US</dc:language>
  <cp:lastModifiedBy/>
  <cp:revision>1</cp:revision>
  <dc:subject/>
  <dc:title/>
</cp:coreProperties>
</file>