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1511935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7C4A0-0E09-4027-822C-67164F480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163440"/>
            <a:ext cx="9615600" cy="3392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3526920"/>
            <a:ext cx="9615600" cy="47552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8734320"/>
            <a:ext cx="9615600" cy="47552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73626-5BD3-4431-8C44-622C2DDF1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163440"/>
            <a:ext cx="9615600" cy="3392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3526920"/>
            <a:ext cx="4692240" cy="47552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2280" y="3526920"/>
            <a:ext cx="4692240" cy="47552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8734320"/>
            <a:ext cx="4692240" cy="47552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2280" y="8734320"/>
            <a:ext cx="4692240" cy="47552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4ADB-0194-464B-A904-C2CA61BD6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163440"/>
            <a:ext cx="9615600" cy="3392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3526920"/>
            <a:ext cx="3096000" cy="47552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6120" y="3526920"/>
            <a:ext cx="3096000" cy="47552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37280" y="3526920"/>
            <a:ext cx="3096000" cy="47552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8734320"/>
            <a:ext cx="3096000" cy="47552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6120" y="8734320"/>
            <a:ext cx="3096000" cy="47552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37280" y="8734320"/>
            <a:ext cx="3096000" cy="47552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39DBF-997A-4D51-AA8F-99917E505D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163440"/>
            <a:ext cx="9615600" cy="3392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3526920"/>
            <a:ext cx="9615600" cy="996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115C2-0F62-4336-985A-E7108F7C09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163440"/>
            <a:ext cx="9615600" cy="3392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3526920"/>
            <a:ext cx="9615600" cy="99694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31BBD-9BB5-44B6-9CB4-4B3EC13DE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163440"/>
            <a:ext cx="9615600" cy="3392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3526920"/>
            <a:ext cx="4692240" cy="99694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2280" y="3526920"/>
            <a:ext cx="4692240" cy="99694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5310C-6404-4896-A4FD-7940DE077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163440"/>
            <a:ext cx="9615600" cy="3392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6699E-C416-4750-8956-0A9B07E92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163440"/>
            <a:ext cx="961560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3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829CF-A87D-436A-BC71-8A41C2946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163440"/>
            <a:ext cx="9615600" cy="3392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3526920"/>
            <a:ext cx="4692240" cy="47552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2280" y="3526920"/>
            <a:ext cx="4692240" cy="99694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8734320"/>
            <a:ext cx="4692240" cy="47552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634AD-9D2E-49EC-87F8-657641358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163440"/>
            <a:ext cx="9615600" cy="3392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3526920"/>
            <a:ext cx="4692240" cy="99694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2280" y="3526920"/>
            <a:ext cx="4692240" cy="47552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2280" y="8734320"/>
            <a:ext cx="4692240" cy="47552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EC63-8B9F-4EEE-B63E-CF70C8B1F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163440"/>
            <a:ext cx="9615600" cy="3392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3526920"/>
            <a:ext cx="4692240" cy="47552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2280" y="3526920"/>
            <a:ext cx="4692240" cy="47552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8734320"/>
            <a:ext cx="9615600" cy="47552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AA5D6-5E05-4FC1-A683-AB2DD2FAA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163440"/>
            <a:ext cx="9615600" cy="3392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3526920"/>
            <a:ext cx="9615600" cy="99694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13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13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13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13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534960" y="14013000"/>
            <a:ext cx="24955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652920" y="14013000"/>
            <a:ext cx="33876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662960" y="14011200"/>
            <a:ext cx="2487600" cy="7970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11D24-6892-4309-AE5C-7B5AA202F2FC}" type="slidenum">
              <a:rPr b="0" lang="it-IT" sz="2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6920" y="210960"/>
            <a:ext cx="1782720" cy="1408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00360" y="330120"/>
            <a:ext cx="6496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ssociazione Marco Mascag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www.giardinodimarco.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8000"/>
            <a:ext cx="1062036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Giovedì 8 settembre ore 16.30-21.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Parco Marco Mascag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Comic Sans MS"/>
              </a:rPr>
              <a:t>Via Ruoppolo-Via Bertin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5200" spc="-1" strike="noStrike">
                <a:solidFill>
                  <a:srgbClr val="000000"/>
                </a:solidFill>
                <a:latin typeface="Comic Sans MS"/>
              </a:rPr>
              <a:t>Marco Mascagna 20 anni dopo:</a:t>
            </a:r>
            <a:r>
              <a:rPr b="1" i="1" lang="it-IT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4400" spc="-1" strike="noStrike">
                <a:solidFill>
                  <a:srgbClr val="000000"/>
                </a:solidFill>
                <a:latin typeface="Comic Sans MS"/>
              </a:rPr>
              <a:t>ambiente, salute, giustizia e pa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60360" y="5938920"/>
            <a:ext cx="3959280" cy="5578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319640" y="6478560"/>
            <a:ext cx="611964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omic Sans MS"/>
              </a:rPr>
              <a:t>stand, mostre, performanc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omic Sans MS"/>
              </a:rPr>
              <a:t>laboratorio di pittura per bambini, minicorso di compostaggio domesti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9680" y="11877840"/>
            <a:ext cx="1055376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Musica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Daniela del Monaco e Antonio Grande, Finti-Illimani, The Beatleju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4:55:17Z</dcterms:created>
  <dc:creator>PIO RUSSO KRAUSS</dc:creator>
  <dc:description/>
  <dc:language>en-US</dc:language>
  <cp:lastModifiedBy>Russo Krauss</cp:lastModifiedBy>
  <dcterms:modified xsi:type="dcterms:W3CDTF">2009-11-28T18:45:52Z</dcterms:modified>
  <cp:revision>15</cp:revision>
  <dc:subject/>
  <dc:title>Diapositiva 1</dc:title>
</cp:coreProperties>
</file>