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913-B24F-441A-9760-C5AB130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95F-ABC0-4F24-BC64-1BE87CD8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DE4-B557-4EA5-A1A3-AD903830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8244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396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28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8244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396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7F8-62E5-4524-B128-DC9D8876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9BD-50C1-4D14-91D0-EDD3692E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D4C-93AD-485C-B0E9-5B54257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6B1-4736-414A-8697-3AEEBF7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E87-7189-4896-BABF-4485454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280" y="757080"/>
            <a:ext cx="6154920" cy="77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D44-D83F-436D-9C92-9014C12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4C1-AF7E-45F7-89E0-92F146A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839-5287-430D-82EA-27BECFE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584-748F-45FB-8D1D-7B0A324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28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8560" y="9443520"/>
            <a:ext cx="21668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392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9F9977-D261-44ED-BB3A-9489F06B86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280" y="360360"/>
            <a:ext cx="88272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7440" y="330120"/>
            <a:ext cx="4859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ssociazione Marco Masca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www.giardinodimarco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1295280"/>
            <a:ext cx="737856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iovedì 8 settembre ore 16.30-21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arco Marco Masca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Via Ruoppolo-Via Bert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Marco Mascagna 20 anni dopo</a:t>
            </a:r>
            <a:r>
              <a:rPr b="1" i="1" lang="it-IT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ambiente, salute, giustizia e 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6360" y="4251240"/>
            <a:ext cx="2700360" cy="34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0360" y="4246560"/>
            <a:ext cx="3780000" cy="33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Comic Sans MS"/>
              </a:rPr>
              <a:t>stand, mostre, performa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Comic Sans MS"/>
              </a:rPr>
              <a:t>laboratorio di pittura per bambini, minicorso di compostaggio domes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7920000"/>
            <a:ext cx="74217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Music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Daniela del Monaco e Antonio Grand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</a:rPr>
              <a:t>Finti-Illimani, The Beatleju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6:07:55Z</dcterms:created>
  <dc:creator>krauss </dc:creator>
  <dc:description/>
  <dc:language>en-US</dc:language>
  <cp:lastModifiedBy/>
  <cp:revision>1</cp:revision>
  <dc:subject/>
  <dc:title/>
</cp:coreProperties>
</file>